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798A-DD71-4208-9487-6FBAC4BE285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29D4-E787-4FD4-A5A3-8874E9541AFD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A28C-60E7-40EA-A94D-92B83660953A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D5F2-74A6-477B-93D9-3D7D8CB53F5F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52C8-3B75-4982-8A7D-3B8657A04F7F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4668-D5B1-4AA1-B91C-6BD444A32403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58C9-F1D1-41CF-A035-0D222F4B0A89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AFCD-A361-496A-9E64-F11332281B70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45E4-585E-4D3A-94F6-5F62814A022C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598B-3AD3-439A-B190-45EA52E48902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7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8076-744B-473B-A0CC-B9BC29A71FA6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600" y="744480"/>
            <a:ext cx="6613560" cy="37195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396-2D83-4D55-A317-4F20E2C1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46A-91A8-47D3-A7ED-A71CD2C9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36A-0473-4EA7-A58D-2610FF96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805-069D-4C44-AC0E-34BFC4C6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1F75-D986-4598-AC30-73B9EA10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6E3E-9FDA-481A-9691-700BD658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C932-2623-4FBD-8F3A-956D3616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2DF7-4C77-422B-8461-0CC64581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7B10-D265-484F-84F3-E810F0C1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2646-5801-4D5C-A60F-F4E2D3EE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B844-1FA3-43C5-BD3E-1DCF1829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464-D4C0-4ED3-9820-0FFD543F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203C-B44C-4DC1-9102-6AF6B96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BB63-D7AD-4059-A1C9-4CA716D7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03A6-802A-41E5-B93D-8214C437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EE9B-9F14-4802-AC64-967C118F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FE9B-8C5C-4B28-920B-04EA41B2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1B811-82AA-44D0-9EE1-A623177A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F192-1D7B-4ABD-800A-52692058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2D30-70B1-4E2D-B3B6-C1726F27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A4D4-71F7-4B3A-9242-90637424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50D1-FE8F-4E92-AB9A-A55D7CF4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EE58-22EE-4E5D-9C68-F7744168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8E34-AEC9-4B2D-9BC7-64B360E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19B47-1C8A-434F-84F0-E4729B34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7FB8-C4C0-4247-AA4C-8FC6BDF8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45941-4DF7-4659-8E40-1D3F7FCC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5BD5-2DD7-4C2C-ADD5-0852736A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F5E5-548B-436E-8BE0-EB668711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E44A-9CF1-47E4-9307-A0939FDD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1E811-CAC8-403E-B2E2-1C617EDB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53D2B-6E25-4C2C-812A-0758B83D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4674-C59C-4972-BAF3-B6B57D22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88ED-8571-4138-B5EA-41AFB5F6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F64E-B535-4A4C-A53D-164FA2D0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2054-0796-4AFE-89A8-47D32C1F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B471-A4BC-4E1C-AD33-636BBABD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D477-A36C-42CE-86AF-C45F4214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F4895-D2DF-4D81-B59B-7A89F24A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199F1-F80E-4962-AECB-19A9ED2F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AF0F5-9859-4C13-8429-B94085C1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607A7-25A5-4F66-82C9-6ECCE0EF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0B9BF-B733-46F9-ABBD-0FEBFA29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E754-C2D8-4220-AD2F-D8D93BDB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E56-56C7-4ECB-8B72-55BF5A79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3DC6-B734-4835-A295-7AC646B6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BCDB7-31D5-4EEC-BDD8-2D4F81AA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D6043-BC14-4F14-B30E-15FAB8F4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19BA6-E020-4863-BBF1-F81299A9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E391-85C8-410F-AF93-413561A5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F67E-EB16-4707-BD9C-3C93DEE2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D422E-C08A-49F6-AA47-136E65CF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6340E-D2A9-46E0-A606-5F4F97BC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283B2-1D26-4A7F-BBEF-1B72576D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FB3AA-5E33-40D6-B0E9-C9811E7D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279-AF49-48F4-8F60-E0F7B6E2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1BAF3-0E98-4459-AE1F-9C75C2ED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B0965-4915-4070-BC79-21AE14C1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DD062-041C-4F48-8E51-7D63B7CB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DB20B-7E65-40D2-872C-942E8D89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AA577-233D-455D-8216-11AC513E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47C5-412D-4596-8B93-23102442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0E0AA-79AE-4EDE-9EE9-BBEB95BE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28CC4-57AA-4FDF-8406-0F9C6628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C8A73-10CE-42AA-858B-6CF9D9DC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90CED-CB3D-421A-8B5E-21ACB2FB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08B-9E10-4E58-9EF2-5D56F6FC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E26FE-A246-4F1D-B14E-7C78B101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D7D75-3E05-47CA-9A91-46808BA5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2F3DF-9444-484B-B28F-036FF9A8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65A-0B81-4EDA-B3B1-786CBFC5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0DE-3DB9-41F9-A9FC-5C58E9CD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741B-8F69-4459-A240-BBAC1B7D7E1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12DE-8A72-4724-BB15-70224A65B56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A4CF-F3BE-4222-AE26-69018068A8A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1CF3-8A4B-4EBA-B409-161488EF1F45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1B56-5AD1-40C7-A154-BF296B0F095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C780-838F-45FC-B098-E998CA425E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081B-A0E2-4C99-AEEA-24B29375B58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2FDB-049E-45ED-BDC5-E076C232FC5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3A2B-2229-4900-8B1A-3972A37593D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44F4-B97A-4B5E-8627-E31D65E59C0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4EA9-5C7D-4A37-98CF-206CC61707B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B4D3-7786-44EA-93CB-E3F1A2A1F73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7029360"/>
            <a:ext cx="12187080" cy="71640"/>
          </a:xfrm>
          <a:prstGeom prst="rect">
            <a:avLst/>
          </a:prstGeom>
          <a:ln w="0">
            <a:noFill/>
          </a:ln>
        </p:spPr>
      </p:pic>
      <p:sp>
        <p:nvSpPr>
          <p:cNvPr id="261" name="Título 1"/>
          <p:cNvSpPr/>
          <p:nvPr/>
        </p:nvSpPr>
        <p:spPr>
          <a:xfrm>
            <a:off x="627120" y="1646280"/>
            <a:ext cx="109411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a8ef2"/>
                </a:solidFill>
                <a:latin typeface="Calibri"/>
              </a:rPr>
              <a:t>ANÁLISES PRELIMINARES – AEAT 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242852"/>
                </a:solidFill>
                <a:latin typeface="Calibri"/>
              </a:rPr>
              <a:t>Brasília, setembr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tângulo 1"/>
          <p:cNvSpPr/>
          <p:nvPr/>
        </p:nvSpPr>
        <p:spPr>
          <a:xfrm>
            <a:off x="407880" y="2048040"/>
            <a:ext cx="1137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rreção da queda no número de acidentes sem CAT em 2016 quando comparado com 2015 de 9,10% para 6,14%, número próximo à redução de contribuintes empreg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Queda de 7,25% das CATs de trajeto emitidas em 2017 quando comparadas com 2016, fenômeno não observado em outros a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982800" y="8161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tângulo 1"/>
          <p:cNvSpPr/>
          <p:nvPr/>
        </p:nvSpPr>
        <p:spPr>
          <a:xfrm>
            <a:off x="407880" y="1557360"/>
            <a:ext cx="1130472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acidentes de trajeto tiveram queda relevante em 2017 quando comparados com 2016, fenômeno antes não observ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abilização dos dados ocorrem normalmente no segundo ano após a ocorrência do evento, quando passam a ser mais fidedig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redução em menores proporções na taxa de incidência de acidentes de trabalho em 2016 e 2017 podem ser reflexo dos acidentes não registrados/reconhecidos em virtude da gre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982800" y="733320"/>
            <a:ext cx="1037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REFLEX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2" descr="cabecalho"/>
          <p:cNvPicPr/>
          <p:nvPr/>
        </p:nvPicPr>
        <p:blipFill>
          <a:blip r:embed="rId1"/>
          <a:srcRect l="0" t="89500" r="0" b="0"/>
          <a:stretch/>
        </p:blipFill>
        <p:spPr>
          <a:xfrm>
            <a:off x="0" y="6813720"/>
            <a:ext cx="12187080" cy="71280"/>
          </a:xfrm>
          <a:prstGeom prst="rect">
            <a:avLst/>
          </a:prstGeom>
          <a:ln w="0">
            <a:noFill/>
          </a:ln>
        </p:spPr>
      </p:pic>
      <p:sp>
        <p:nvSpPr>
          <p:cNvPr id="291" name="CaixaDeTexto 4"/>
          <p:cNvSpPr/>
          <p:nvPr/>
        </p:nvSpPr>
        <p:spPr>
          <a:xfrm>
            <a:off x="816120" y="692280"/>
            <a:ext cx="1065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ubtítulo 2"/>
          <p:cNvSpPr/>
          <p:nvPr/>
        </p:nvSpPr>
        <p:spPr>
          <a:xfrm>
            <a:off x="1295280" y="2276640"/>
            <a:ext cx="98884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ORION SÁVIO SANTOS DE OLIV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Analista Técnico de Política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orion.oliveir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PAULO CÉSAR ANDRADE ALME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oordenador-Geral do Seguro Contra Acidentes de Trabal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GSAT/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paulo.aalmeid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70c0"/>
                </a:solidFill>
                <a:latin typeface="Calibri"/>
              </a:rPr>
              <a:t>EVANDRO CO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oordenador-Geral de Monitoramento de Benefícios por Incapa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CGMBI/SRGPS/SPREV/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evandro.cotta@previdencia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1047600" y="868320"/>
            <a:ext cx="103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QUEM É PROTEGIDO PELO SEGURO CONTRA ACIDENTES DE TRABAL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aixaDeTexto 4"/>
          <p:cNvSpPr/>
          <p:nvPr/>
        </p:nvSpPr>
        <p:spPr>
          <a:xfrm>
            <a:off x="550800" y="2478240"/>
            <a:ext cx="1065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mpreg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mpregado Domést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ul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rado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047600" y="620640"/>
            <a:ext cx="103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CIDENTES DE TRABALHO NO BRASIL – 2013 a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11160" y="1197000"/>
          <a:ext cx="10298160" cy="4608360"/>
        </p:xfrm>
        <a:graphic>
          <a:graphicData uri="http://schemas.openxmlformats.org/drawingml/2006/table">
            <a:tbl>
              <a:tblPr/>
              <a:tblGrid>
                <a:gridCol w="1222560"/>
                <a:gridCol w="4070160"/>
                <a:gridCol w="5005440"/>
              </a:tblGrid>
              <a:tr h="65880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cidentes de Trabalho -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de Acidentes 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5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e5f7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5.6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.3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8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7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2.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62% (GREVE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.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658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9.4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66" name="CaixaDeTexto 2"/>
          <p:cNvSpPr/>
          <p:nvPr/>
        </p:nvSpPr>
        <p:spPr>
          <a:xfrm>
            <a:off x="911160" y="585792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aixaDeTexto 3"/>
          <p:cNvSpPr/>
          <p:nvPr/>
        </p:nvSpPr>
        <p:spPr>
          <a:xfrm>
            <a:off x="695160" y="6165720"/>
            <a:ext cx="11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Greve dos administrativos de 07/07/2015 a 25/09/2015 e greve dos peritos médicos de 04/09/2015 a 25/01/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982800" y="733320"/>
            <a:ext cx="10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CONTRIBUINTES DA PREVID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911160" y="1341360"/>
          <a:ext cx="10369440" cy="4896000"/>
        </p:xfrm>
        <a:graphic>
          <a:graphicData uri="http://schemas.openxmlformats.org/drawingml/2006/table">
            <a:tbl>
              <a:tblPr/>
              <a:tblGrid>
                <a:gridCol w="619200"/>
                <a:gridCol w="2154240"/>
                <a:gridCol w="2531880"/>
                <a:gridCol w="2532240"/>
                <a:gridCol w="2531880"/>
              </a:tblGrid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º de contribuintes da Previd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º de contribuintes empreg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837.1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687.8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.339.9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.625.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635.0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656.1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5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52.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624.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  <a:tr h="816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095.7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250.2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6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d8ed"/>
                    </a:solidFill>
                  </a:tcPr>
                </a:tc>
              </a:tr>
            </a:tbl>
          </a:graphicData>
        </a:graphic>
      </p:graphicFrame>
      <p:sp>
        <p:nvSpPr>
          <p:cNvPr id="270" name="CaixaDeTexto 3"/>
          <p:cNvSpPr/>
          <p:nvPr/>
        </p:nvSpPr>
        <p:spPr>
          <a:xfrm>
            <a:off x="695160" y="63309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39880" y="804960"/>
            <a:ext cx="1037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VARIAÇÃO DA TAXA DE INCIDÊNCIA DE ACIDENTES DE TRABA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ixaDeTexto 3"/>
          <p:cNvSpPr/>
          <p:nvPr/>
        </p:nvSpPr>
        <p:spPr>
          <a:xfrm>
            <a:off x="192240" y="602136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te: Infologo AE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95200" y="1628640"/>
          <a:ext cx="11096640" cy="4440240"/>
        </p:xfrm>
        <a:graphic>
          <a:graphicData uri="http://schemas.openxmlformats.org/drawingml/2006/table">
            <a:tbl>
              <a:tblPr/>
              <a:tblGrid>
                <a:gridCol w="1359000"/>
                <a:gridCol w="4500360"/>
                <a:gridCol w="5237280"/>
              </a:tblGrid>
              <a:tr h="73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 de Incidência de Acidentes de Trabalho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ção em relação ao ano a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8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,3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74" name="CaixaDeTexto 2"/>
          <p:cNvSpPr/>
          <p:nvPr/>
        </p:nvSpPr>
        <p:spPr>
          <a:xfrm>
            <a:off x="192240" y="6359400"/>
            <a:ext cx="1116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úmero de novos casos de acidentes do trabalho registrados e não registrados /número médio anual de vínculos *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tângulo 1"/>
          <p:cNvSpPr/>
          <p:nvPr/>
        </p:nvSpPr>
        <p:spPr>
          <a:xfrm>
            <a:off x="334800" y="1712880"/>
            <a:ext cx="1116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-se que o total de acidentes de trabalho em 2017, embora tenha sofrido redução no número absoluto, representa tendência compatível com os anos anteriores, em especial quando o dado é relativizado pelo número de segurados empreg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ouve atualização</a:t>
            </a:r>
            <a:r>
              <a:rPr b="0" lang="pt-BR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s dados de 2016, refletindo nesse ano o resultado do que deixou de ser contabilizado em 2015 em virtude das greves no IN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982800" y="7333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aixaDeTexto 2"/>
          <p:cNvSpPr/>
          <p:nvPr/>
        </p:nvSpPr>
        <p:spPr>
          <a:xfrm>
            <a:off x="479520" y="5877000"/>
            <a:ext cx="1108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EAT 2017, quando publicado, apresenta os dados de 2017 e realiza correção/atualização dos dados de 2016, incorporando as informações que foram inseridas nos bancos de dados após a extração do AEAT 2016, quando então ocorre a estabilização da inform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982800" y="733320"/>
            <a:ext cx="1037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aixaDeTexto 1"/>
          <p:cNvSpPr/>
          <p:nvPr/>
        </p:nvSpPr>
        <p:spPr>
          <a:xfrm>
            <a:off x="263520" y="1801800"/>
            <a:ext cx="1137744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nsiderando a redução do número de contribuintes empregados e a redução histórica no número de acidentes de trabalho, os dados relacionados a 2016 mostram-se coerentes com a série histó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982800" y="733320"/>
            <a:ext cx="10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CIDENTES DE TRABALHO POR TIPO – 2013 a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63520" y="1413000"/>
          <a:ext cx="11593440" cy="4608360"/>
        </p:xfrm>
        <a:graphic>
          <a:graphicData uri="http://schemas.openxmlformats.org/drawingml/2006/table">
            <a:tbl>
              <a:tblPr/>
              <a:tblGrid>
                <a:gridCol w="949320"/>
                <a:gridCol w="1414440"/>
                <a:gridCol w="1433520"/>
                <a:gridCol w="1282680"/>
                <a:gridCol w="1166760"/>
                <a:gridCol w="1292400"/>
                <a:gridCol w="1290600"/>
                <a:gridCol w="1433520"/>
                <a:gridCol w="1330200"/>
              </a:tblGrid>
              <a:tr h="503280">
                <a:tc gridSpan="7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 CAT registr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em CAT</a:t>
                      </a:r>
                      <a:r>
                        <a:rPr b="1" lang="pt-BR" sz="20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1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í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j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enç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ção em relação ao an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7924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.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.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4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0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.2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.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.6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7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2,5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47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.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5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27</a:t>
                      </a:r>
                      <a:r>
                        <a:rPr b="0" lang="pt-BR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,4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5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9ccee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0.2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ad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6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0,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cbe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.7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,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1"/>
                    </a:solidFill>
                  </a:tcPr>
                </a:tc>
              </a:tr>
            </a:tbl>
          </a:graphicData>
        </a:graphic>
      </p:graphicFrame>
      <p:sp>
        <p:nvSpPr>
          <p:cNvPr id="282" name="CaixaDeTexto 3"/>
          <p:cNvSpPr/>
          <p:nvPr/>
        </p:nvSpPr>
        <p:spPr>
          <a:xfrm>
            <a:off x="192240" y="59500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ixaDeTexto 2"/>
          <p:cNvSpPr/>
          <p:nvPr/>
        </p:nvSpPr>
        <p:spPr>
          <a:xfrm>
            <a:off x="192240" y="6227640"/>
            <a:ext cx="1185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lui os acidentes identificados sem a emissão de CAT, por meio dos Nexos Téc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EAT 2016 constavam 12.502 CATs de doença para o 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tângulo 1"/>
          <p:cNvSpPr/>
          <p:nvPr/>
        </p:nvSpPr>
        <p:spPr>
          <a:xfrm>
            <a:off x="192240" y="1712880"/>
            <a:ext cx="1159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rreção do número de CATs de doenças do trabalho emitidas em 2016 fez com que a redução em relação ao ano de 2015 caísse de 18,74% para 9,48%. Tal fato pode indic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ificuldade na identificação do nexo entre a doença e o trabalho e consequente postergação na emissão da C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 CAT somente é emitida após o reconhecimento do nexo entre o agravo e o trabalho pelo IN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CATs por doença sofreram redução elevada em 2017 (30,35%), quando comparadas com 2016, sem explicação específica (como ocorreu em 2016). É necessário aguardar as correções que ocorrerão em 2018 para identificar se há tendência de estabilização dos dados somente no segundo ano após a ocorrência do ev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982800" y="733320"/>
            <a:ext cx="103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1f5fa0"/>
                </a:solidFill>
                <a:uFillTx/>
                <a:latin typeface="Times New Roman"/>
                <a:ea typeface="Lucida Sans Unicode"/>
              </a:rPr>
              <a:t>ANÁLISE PRELIMINAR D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8-09-24T19:17:35Z</cp:lastPrinted>
  <dcterms:modified xsi:type="dcterms:W3CDTF">2018-09-25T20:22:15Z</dcterms:modified>
  <cp:revision>618</cp:revision>
  <dc:subject/>
  <dc:title>Demografia</dc:title>
</cp:coreProperties>
</file>